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74A38-FA39-4386-891C-01D573138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8B847-A5C1-465F-8AD2-13F6664C3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8625F-977E-469D-8C98-D548D4302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C8D5B-07F0-4EA1-952D-F256CAEF8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B40B5-2D84-4F19-A61D-9D9B6A000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BD103-98AB-403F-9F48-A7D9AA453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B9650-6CB7-4218-ACA8-4C1FB0786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847F7-B399-400A-82D8-7AC0D3843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12838-3843-4774-92E9-877BD4DBE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B713D-2754-43E7-9E4C-7A95B626A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AD928-809E-4FF0-B74F-D74C17E86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142C5-D7A0-4E78-B567-D170062FB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32C64-2B5B-48E1-8650-D925BF1AB91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teor Notes 11/1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Meteoroi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chunk of rock or dust in space that come from comets or asteroi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Mete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a meteoroid that passes through Earth’s atmosphere. Friction with air creates heat and produces a streak of ligh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Meteorit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a meteoroid that does not burn up completely in the Earth’s atmosphere as a meteor and hits Earth’s surfac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6T13:44:27Z</dcterms:created>
  <dc:creator>skrial</dc:creator>
  <dc:description/>
  <dc:language>en-US</dc:language>
  <cp:lastModifiedBy>skrial</cp:lastModifiedBy>
  <dcterms:modified xsi:type="dcterms:W3CDTF">2009-11-16T13:45:04Z</dcterms:modified>
  <cp:revision>1</cp:revision>
  <dc:subject/>
  <dc:title>Meteor Notes 11/16</dc:title>
</cp:coreProperties>
</file>